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10E7-4814-4A55-9AC0-D66F0092E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761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249E-6602-400D-895A-72CBDF125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606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61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606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649C-C7DE-4AC4-9335-FD70E8476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112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463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761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112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463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8620-825F-4461-9FC7-673FA9D76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1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606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520" y="1522080"/>
            <a:ext cx="6248160" cy="49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606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6761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761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6A89-9EB7-459C-AFBC-E63EE4EE4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06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606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06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761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761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606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761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606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12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63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6761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112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63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1AE8-BD92-47B5-8A6B-2F5AD7775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606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3395-CA28-4B47-9F73-E8CABC935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8F3E-B2F4-4171-B465-EB31BCA08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520" y="1522080"/>
            <a:ext cx="6248160" cy="49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C74B-90ED-4C2A-ADBC-00A19C293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06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761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C206-D504-4AF0-AB84-BE3DB90E0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06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06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605A-983E-41B4-8D77-3F27D721C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06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761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E096-8C06-49D7-A66B-C347066DB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6"/>
                </a:solidFill>
                <a:latin typeface="Arial Black"/>
              </a:rPr>
              <a:t>Click to edit the title text format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009900"/>
              </a:buClr>
              <a:buSzPct val="85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19760" y="64771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000"/>
                </a:solidFill>
                <a:latin typeface="Times New Roman"/>
                <a:ea typeface="Arial (Hebrew)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5139-B657-40EC-8086-7550BFB420A4}" type="slidenum">
              <a:rPr b="0" lang="en-US" sz="1400" spc="-1" strike="noStrike">
                <a:solidFill>
                  <a:srgbClr val="005000"/>
                </a:solidFill>
                <a:latin typeface="Times New Roman"/>
                <a:ea typeface="Arial (Hebrew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81280" y="1066680"/>
            <a:ext cx="5562720" cy="7632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d0d0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522080"/>
            <a:ext cx="62481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86"/>
                </a:solidFill>
                <a:latin typeface="Arial Black"/>
              </a:rPr>
              <a:t>Click to edit the title text format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41" name=""/>
          <p:cNvSpPr/>
          <p:nvPr/>
        </p:nvSpPr>
        <p:spPr>
          <a:xfrm>
            <a:off x="1219320" y="2971800"/>
            <a:ext cx="7315200" cy="76320"/>
          </a:xfrm>
          <a:prstGeom prst="rect">
            <a:avLst/>
          </a:prstGeom>
          <a:gradFill rotWithShape="0">
            <a:gsLst>
              <a:gs pos="0">
                <a:srgbClr val="d0d0e8"/>
              </a:gs>
              <a:gs pos="50000">
                <a:srgbClr val="000086"/>
              </a:gs>
              <a:gs pos="100000">
                <a:srgbClr val="d0d0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alma2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3200400" cy="21938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8200" y="194868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0086"/>
                </a:solidFill>
                <a:latin typeface="Arial Black"/>
              </a:rPr>
              <a:t>חיפויי קרקע</a:t>
            </a:r>
            <a:endParaRPr b="1" i="1" lang="en-US" sz="44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828800" y="3429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כתב והגיש : דרור ניס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258480"/>
            <a:ext cx="746784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חיפוי בשבבי עץ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pic>
        <p:nvPicPr>
          <p:cNvPr id="125" name="חיפוי%20בשביבי%20עץ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6019920" cy="4091040"/>
          </a:xfrm>
          <a:prstGeom prst="rect">
            <a:avLst/>
          </a:prstGeom>
          <a:ln w="12600">
            <a:solidFill>
              <a:srgbClr val="3131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98F9-094D-4D3A-BBFC-D89280808E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3880" y="2566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  <a:cs typeface="Arial (Hebrew)"/>
              </a:rPr>
              <a:t>שבבי עץ, קליפות עצים, קוקו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981080"/>
            <a:ext cx="7543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החיפוי בעל המראה הנאה ביותר, ניתן לקבלו בגוונים שוני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יש לפזר בשכבה בגובה של  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 (Hebrew)"/>
              </a:rPr>
              <a:t>10-15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 (Hebrew)"/>
              </a:rPr>
              <a:t> ס"מ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חומר יציב לדריכה, אינו נשטף בגשם,אינו ממהר להתפר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ניתן להשיג חומר נקי אשר אינו מכיל זרעים (אורני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447920"/>
            <a:ext cx="464796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6fee6"/>
              </a:gs>
            </a:gsLst>
            <a:lin ang="10800000"/>
          </a:gra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שבבי ע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3733920"/>
            <a:ext cx="464796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6fee6"/>
              </a:gs>
            </a:gsLst>
            <a:lin ang="10800000"/>
          </a:gra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קליפות עצי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876920"/>
            <a:ext cx="464796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6fee6"/>
              </a:gs>
            </a:gsLst>
            <a:lin ang="10800000"/>
          </a:gra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יריעות קוקו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4267080"/>
            <a:ext cx="7543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חיפוי איכותי במיוחד, ניתן להשיג בחנויות בעיקר מיבוא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54100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חיפוי יעיל ואסתטי, חלק עליון מחצלת קוקוס חלק תחתון ניילו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223F-0EBF-4799-A16A-D8DCB4FDB6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58480"/>
            <a:ext cx="746784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חיפוי בקומפוסט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10080" y="144792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45000"/>
              </a:lnSpc>
              <a:spcBef>
                <a:spcPts val="624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חיפוי בקומפוסט על ידי מפוח המפזר את החומר בשטח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24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חיפוי%20בעזרת%20מפוח" descr=""/>
          <p:cNvPicPr/>
          <p:nvPr/>
        </p:nvPicPr>
        <p:blipFill>
          <a:blip r:embed="rId2"/>
          <a:srcRect l="0" t="3703" r="0" b="7405"/>
          <a:stretch/>
        </p:blipFill>
        <p:spPr>
          <a:xfrm>
            <a:off x="2133720" y="1981080"/>
            <a:ext cx="3009960" cy="3657600"/>
          </a:xfrm>
          <a:prstGeom prst="rect">
            <a:avLst/>
          </a:prstGeom>
          <a:ln w="12600">
            <a:solidFill>
              <a:srgbClr val="0099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2114640" y="6005520"/>
            <a:ext cx="761760" cy="490680"/>
          </a:xfrm>
          <a:custGeom>
            <a:avLst/>
            <a:gdLst>
              <a:gd name="textAreaLeft" fmla="*/ 31680 w 761760"/>
              <a:gd name="textAreaRight" fmla="*/ 730080 w 761760"/>
              <a:gd name="textAreaTop" fmla="*/ 31680 h 490680"/>
              <a:gd name="textAreaBottom" fmla="*/ 459000 h 490680"/>
            </a:gdLst>
            <a:ahLst/>
            <a:rect l="textAreaLeft" t="textAreaTop" r="textAreaRight" b="textAreaBottom"/>
            <a:pathLst>
              <a:path w="33524" h="21600">
                <a:moveTo>
                  <a:pt x="0" y="0"/>
                </a:moveTo>
                <a:lnTo>
                  <a:pt x="33524" y="0"/>
                </a:lnTo>
                <a:lnTo>
                  <a:pt x="33524" y="21600"/>
                </a:lnTo>
                <a:lnTo>
                  <a:pt x="0" y="21600"/>
                </a:lnTo>
                <a:close/>
              </a:path>
              <a:path fill="lightenLess" w="33524" h="21600">
                <a:moveTo>
                  <a:pt x="0" y="0"/>
                </a:moveTo>
                <a:lnTo>
                  <a:pt x="33524" y="0"/>
                </a:lnTo>
                <a:lnTo>
                  <a:pt x="32124" y="1400"/>
                </a:lnTo>
                <a:lnTo>
                  <a:pt x="1400" y="1400"/>
                </a:lnTo>
                <a:close/>
              </a:path>
              <a:path fill="darken" w="33524" h="21600">
                <a:moveTo>
                  <a:pt x="33524" y="0"/>
                </a:moveTo>
                <a:lnTo>
                  <a:pt x="33524" y="21600"/>
                </a:lnTo>
                <a:lnTo>
                  <a:pt x="32124" y="20200"/>
                </a:lnTo>
                <a:lnTo>
                  <a:pt x="32124" y="1400"/>
                </a:lnTo>
                <a:close/>
              </a:path>
              <a:path fill="darkenLess" w="33524" h="21600">
                <a:moveTo>
                  <a:pt x="33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24" y="20200"/>
                </a:lnTo>
                <a:close/>
              </a:path>
              <a:path fill="lighten" w="33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24" h="21600">
                <a:moveTo>
                  <a:pt x="16762" y="3837"/>
                </a:moveTo>
                <a:lnTo>
                  <a:pt x="19338" y="6448"/>
                </a:lnTo>
                <a:lnTo>
                  <a:pt x="19338" y="4707"/>
                </a:lnTo>
                <a:lnTo>
                  <a:pt x="21114" y="4707"/>
                </a:lnTo>
                <a:lnTo>
                  <a:pt x="21114" y="8224"/>
                </a:lnTo>
                <a:lnTo>
                  <a:pt x="23725" y="10800"/>
                </a:lnTo>
                <a:lnTo>
                  <a:pt x="22071" y="10800"/>
                </a:lnTo>
                <a:lnTo>
                  <a:pt x="22071" y="17989"/>
                </a:lnTo>
                <a:lnTo>
                  <a:pt x="11453" y="17989"/>
                </a:lnTo>
                <a:lnTo>
                  <a:pt x="11453" y="10800"/>
                </a:lnTo>
                <a:lnTo>
                  <a:pt x="9799" y="10800"/>
                </a:lnTo>
                <a:close/>
              </a:path>
              <a:path fill="darkenLess" w="33524" h="21600">
                <a:moveTo>
                  <a:pt x="19338" y="6448"/>
                </a:moveTo>
                <a:lnTo>
                  <a:pt x="19338" y="4707"/>
                </a:lnTo>
                <a:lnTo>
                  <a:pt x="21114" y="4707"/>
                </a:lnTo>
                <a:lnTo>
                  <a:pt x="21114" y="8224"/>
                </a:lnTo>
                <a:close/>
              </a:path>
              <a:path fill="darkenLess" w="33524" h="21600">
                <a:moveTo>
                  <a:pt x="15840" y="14299"/>
                </a:moveTo>
                <a:lnTo>
                  <a:pt x="17685" y="14299"/>
                </a:lnTo>
                <a:lnTo>
                  <a:pt x="17685" y="17989"/>
                </a:lnTo>
                <a:lnTo>
                  <a:pt x="22071" y="17989"/>
                </a:lnTo>
                <a:lnTo>
                  <a:pt x="22071" y="10800"/>
                </a:lnTo>
                <a:lnTo>
                  <a:pt x="11453" y="10800"/>
                </a:lnTo>
                <a:lnTo>
                  <a:pt x="11453" y="17989"/>
                </a:lnTo>
                <a:lnTo>
                  <a:pt x="1584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F9A6-C5DB-4245-9877-763F3C7BEE5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חיפוי בעלים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500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זמין בכל גן, זול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1500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אינו עמיד לאורך זמן, עף ברוח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1676520"/>
            <a:ext cx="464796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6fee6"/>
              </a:gs>
            </a:gsLst>
            <a:lin ang="10800000"/>
          </a:gra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עלים של עצים רחבי עלי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419112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500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זמין, זול, שורדים תקופה ארוכה, מראה אסתטי למד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500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בנבטים  צעירים יתכן עיכוב בגדילה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657600"/>
            <a:ext cx="464796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6fee6"/>
              </a:gs>
            </a:gsLst>
            <a:lin ang="10800000"/>
          </a:gra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000000"/>
                </a:solidFill>
                <a:latin typeface="Times New Roman"/>
                <a:ea typeface="Arial (Hebrew)"/>
              </a:rPr>
              <a:t> עלים של מחטניי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7DE7-103C-4C45-828E-4FAB7A5652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עותק%20של%20חיפוי%20קזוארינה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6248520" cy="4038480"/>
          </a:xfrm>
          <a:prstGeom prst="rect">
            <a:avLst/>
          </a:prstGeom>
          <a:ln w="12600">
            <a:solidFill>
              <a:srgbClr val="3131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258480"/>
            <a:ext cx="746784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חיפוי בעלי קזוארינה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2038320" y="6005520"/>
            <a:ext cx="762120" cy="49068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680"/>
              <a:gd name="textAreaBottom" fmla="*/ 459000 h 490680"/>
            </a:gdLst>
            <a:ahLst/>
            <a:rect l="textAreaLeft" t="textAreaTop" r="textAreaRight" b="textAreaBottom"/>
            <a:pathLst>
              <a:path w="33540" h="21600">
                <a:moveTo>
                  <a:pt x="0" y="0"/>
                </a:moveTo>
                <a:lnTo>
                  <a:pt x="33540" y="0"/>
                </a:lnTo>
                <a:lnTo>
                  <a:pt x="33540" y="21600"/>
                </a:lnTo>
                <a:lnTo>
                  <a:pt x="0" y="21600"/>
                </a:lnTo>
                <a:close/>
              </a:path>
              <a:path fill="lightenLess" w="33540" h="21600">
                <a:moveTo>
                  <a:pt x="0" y="0"/>
                </a:moveTo>
                <a:lnTo>
                  <a:pt x="33540" y="0"/>
                </a:lnTo>
                <a:lnTo>
                  <a:pt x="32140" y="1400"/>
                </a:lnTo>
                <a:lnTo>
                  <a:pt x="1400" y="1400"/>
                </a:lnTo>
                <a:close/>
              </a:path>
              <a:path fill="darken" w="33540" h="21600">
                <a:moveTo>
                  <a:pt x="33540" y="0"/>
                </a:moveTo>
                <a:lnTo>
                  <a:pt x="33540" y="21600"/>
                </a:lnTo>
                <a:lnTo>
                  <a:pt x="32140" y="20200"/>
                </a:lnTo>
                <a:lnTo>
                  <a:pt x="32140" y="1400"/>
                </a:lnTo>
                <a:close/>
              </a:path>
              <a:path fill="darkenLess" w="33540" h="21600">
                <a:moveTo>
                  <a:pt x="33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40" y="20200"/>
                </a:lnTo>
                <a:close/>
              </a:path>
              <a:path fill="lighten" w="33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40" h="21600">
                <a:moveTo>
                  <a:pt x="16770" y="3837"/>
                </a:moveTo>
                <a:lnTo>
                  <a:pt x="19346" y="6448"/>
                </a:lnTo>
                <a:lnTo>
                  <a:pt x="19346" y="4707"/>
                </a:lnTo>
                <a:lnTo>
                  <a:pt x="21122" y="4707"/>
                </a:lnTo>
                <a:lnTo>
                  <a:pt x="21122" y="8224"/>
                </a:lnTo>
                <a:lnTo>
                  <a:pt x="23733" y="10800"/>
                </a:lnTo>
                <a:lnTo>
                  <a:pt x="22079" y="10800"/>
                </a:lnTo>
                <a:lnTo>
                  <a:pt x="22079" y="17989"/>
                </a:lnTo>
                <a:lnTo>
                  <a:pt x="11461" y="17989"/>
                </a:lnTo>
                <a:lnTo>
                  <a:pt x="11461" y="10800"/>
                </a:lnTo>
                <a:lnTo>
                  <a:pt x="9807" y="10800"/>
                </a:lnTo>
                <a:close/>
              </a:path>
              <a:path fill="darkenLess" w="33540" h="21600">
                <a:moveTo>
                  <a:pt x="19346" y="6448"/>
                </a:moveTo>
                <a:lnTo>
                  <a:pt x="19346" y="4707"/>
                </a:lnTo>
                <a:lnTo>
                  <a:pt x="21122" y="4707"/>
                </a:lnTo>
                <a:lnTo>
                  <a:pt x="21122" y="8224"/>
                </a:lnTo>
                <a:close/>
              </a:path>
              <a:path fill="darkenLess" w="33540" h="21600">
                <a:moveTo>
                  <a:pt x="15847" y="14299"/>
                </a:moveTo>
                <a:lnTo>
                  <a:pt x="17693" y="14299"/>
                </a:lnTo>
                <a:lnTo>
                  <a:pt x="17693" y="17989"/>
                </a:lnTo>
                <a:lnTo>
                  <a:pt x="22079" y="17989"/>
                </a:lnTo>
                <a:lnTo>
                  <a:pt x="22079" y="10800"/>
                </a:lnTo>
                <a:lnTo>
                  <a:pt x="11461" y="10800"/>
                </a:lnTo>
                <a:lnTo>
                  <a:pt x="11461" y="17989"/>
                </a:lnTo>
                <a:lnTo>
                  <a:pt x="15847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E144-BE64-4E95-A9A1-2091AB4AA1B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חיפוי%20אורנים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6248520" cy="4038480"/>
          </a:xfrm>
          <a:prstGeom prst="rect">
            <a:avLst/>
          </a:prstGeom>
          <a:ln w="12600">
            <a:solidFill>
              <a:srgbClr val="3131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חיפוי בעלי אורנים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2038320" y="5967360"/>
            <a:ext cx="762120" cy="49068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680"/>
              <a:gd name="textAreaBottom" fmla="*/ 459000 h 490680"/>
            </a:gdLst>
            <a:ahLst/>
            <a:rect l="textAreaLeft" t="textAreaTop" r="textAreaRight" b="textAreaBottom"/>
            <a:pathLst>
              <a:path w="33540" h="21600">
                <a:moveTo>
                  <a:pt x="0" y="0"/>
                </a:moveTo>
                <a:lnTo>
                  <a:pt x="33540" y="0"/>
                </a:lnTo>
                <a:lnTo>
                  <a:pt x="33540" y="21600"/>
                </a:lnTo>
                <a:lnTo>
                  <a:pt x="0" y="21600"/>
                </a:lnTo>
                <a:close/>
              </a:path>
              <a:path fill="lightenLess" w="33540" h="21600">
                <a:moveTo>
                  <a:pt x="0" y="0"/>
                </a:moveTo>
                <a:lnTo>
                  <a:pt x="33540" y="0"/>
                </a:lnTo>
                <a:lnTo>
                  <a:pt x="32140" y="1400"/>
                </a:lnTo>
                <a:lnTo>
                  <a:pt x="1400" y="1400"/>
                </a:lnTo>
                <a:close/>
              </a:path>
              <a:path fill="darken" w="33540" h="21600">
                <a:moveTo>
                  <a:pt x="33540" y="0"/>
                </a:moveTo>
                <a:lnTo>
                  <a:pt x="33540" y="21600"/>
                </a:lnTo>
                <a:lnTo>
                  <a:pt x="32140" y="20200"/>
                </a:lnTo>
                <a:lnTo>
                  <a:pt x="32140" y="1400"/>
                </a:lnTo>
                <a:close/>
              </a:path>
              <a:path fill="darkenLess" w="33540" h="21600">
                <a:moveTo>
                  <a:pt x="33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40" y="20200"/>
                </a:lnTo>
                <a:close/>
              </a:path>
              <a:path fill="lighten" w="33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40" h="21600">
                <a:moveTo>
                  <a:pt x="16770" y="3837"/>
                </a:moveTo>
                <a:lnTo>
                  <a:pt x="19346" y="6448"/>
                </a:lnTo>
                <a:lnTo>
                  <a:pt x="19346" y="4707"/>
                </a:lnTo>
                <a:lnTo>
                  <a:pt x="21122" y="4707"/>
                </a:lnTo>
                <a:lnTo>
                  <a:pt x="21122" y="8224"/>
                </a:lnTo>
                <a:lnTo>
                  <a:pt x="23733" y="10800"/>
                </a:lnTo>
                <a:lnTo>
                  <a:pt x="22079" y="10800"/>
                </a:lnTo>
                <a:lnTo>
                  <a:pt x="22079" y="17989"/>
                </a:lnTo>
                <a:lnTo>
                  <a:pt x="11461" y="17989"/>
                </a:lnTo>
                <a:lnTo>
                  <a:pt x="11461" y="10800"/>
                </a:lnTo>
                <a:lnTo>
                  <a:pt x="9807" y="10800"/>
                </a:lnTo>
                <a:close/>
              </a:path>
              <a:path fill="darkenLess" w="33540" h="21600">
                <a:moveTo>
                  <a:pt x="19346" y="6448"/>
                </a:moveTo>
                <a:lnTo>
                  <a:pt x="19346" y="4707"/>
                </a:lnTo>
                <a:lnTo>
                  <a:pt x="21122" y="4707"/>
                </a:lnTo>
                <a:lnTo>
                  <a:pt x="21122" y="8224"/>
                </a:lnTo>
                <a:close/>
              </a:path>
              <a:path fill="darkenLess" w="33540" h="21600">
                <a:moveTo>
                  <a:pt x="15847" y="14299"/>
                </a:moveTo>
                <a:lnTo>
                  <a:pt x="17693" y="14299"/>
                </a:lnTo>
                <a:lnTo>
                  <a:pt x="17693" y="17989"/>
                </a:lnTo>
                <a:lnTo>
                  <a:pt x="22079" y="17989"/>
                </a:lnTo>
                <a:lnTo>
                  <a:pt x="22079" y="10800"/>
                </a:lnTo>
                <a:lnTo>
                  <a:pt x="11461" y="10800"/>
                </a:lnTo>
                <a:lnTo>
                  <a:pt x="11461" y="17989"/>
                </a:lnTo>
                <a:lnTo>
                  <a:pt x="15847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A3F7-FDC1-4A60-B268-E84D3DAD254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חיפוי%20בטוף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011400" cy="3352680"/>
          </a:xfrm>
          <a:prstGeom prst="rect">
            <a:avLst/>
          </a:prstGeom>
          <a:ln w="12600">
            <a:solidFill>
              <a:srgbClr val="3131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החיפוי האנאורגני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2428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350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יתרונו באריכות ימים לזמן בלתי מוגבל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200000"/>
              </a:lnSpc>
              <a:spcBef>
                <a:spcPts val="350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פעילות כימית וביולוגית מועטה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200000"/>
              </a:lnSpc>
              <a:spcBef>
                <a:spcPts val="350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מניעת עשביה יעילה יותר.   </a:t>
            </a:r>
            <a:r>
              <a:rPr b="1" lang="he-IL" sz="2000" spc="-1" strike="noStrike">
                <a:solidFill>
                  <a:srgbClr val="ff5050"/>
                </a:solidFill>
                <a:latin typeface="Arial"/>
              </a:rPr>
              <a:t>האו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מ</a:t>
            </a:r>
            <a:r>
              <a:rPr b="1" lang="he-IL" sz="2000" spc="-1" strike="noStrike">
                <a:solidFill>
                  <a:srgbClr val="ff5050"/>
                </a:solidFill>
                <a:latin typeface="Arial"/>
              </a:rPr>
              <a:t>נם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20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52520" y="5796000"/>
            <a:ext cx="762120" cy="49068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680"/>
              <a:gd name="textAreaBottom" fmla="*/ 459000 h 490680"/>
            </a:gdLst>
            <a:ahLst/>
            <a:rect l="textAreaLeft" t="textAreaTop" r="textAreaRight" b="textAreaBottom"/>
            <a:pathLst>
              <a:path w="33540" h="21600">
                <a:moveTo>
                  <a:pt x="0" y="0"/>
                </a:moveTo>
                <a:lnTo>
                  <a:pt x="33540" y="0"/>
                </a:lnTo>
                <a:lnTo>
                  <a:pt x="33540" y="21600"/>
                </a:lnTo>
                <a:lnTo>
                  <a:pt x="0" y="21600"/>
                </a:lnTo>
                <a:close/>
              </a:path>
              <a:path fill="lightenLess" w="33540" h="21600">
                <a:moveTo>
                  <a:pt x="0" y="0"/>
                </a:moveTo>
                <a:lnTo>
                  <a:pt x="33540" y="0"/>
                </a:lnTo>
                <a:lnTo>
                  <a:pt x="32140" y="1400"/>
                </a:lnTo>
                <a:lnTo>
                  <a:pt x="1400" y="1400"/>
                </a:lnTo>
                <a:close/>
              </a:path>
              <a:path fill="darken" w="33540" h="21600">
                <a:moveTo>
                  <a:pt x="33540" y="0"/>
                </a:moveTo>
                <a:lnTo>
                  <a:pt x="33540" y="21600"/>
                </a:lnTo>
                <a:lnTo>
                  <a:pt x="32140" y="20200"/>
                </a:lnTo>
                <a:lnTo>
                  <a:pt x="32140" y="1400"/>
                </a:lnTo>
                <a:close/>
              </a:path>
              <a:path fill="darkenLess" w="33540" h="21600">
                <a:moveTo>
                  <a:pt x="33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40" y="20200"/>
                </a:lnTo>
                <a:close/>
              </a:path>
              <a:path fill="lighten" w="33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40" h="21600">
                <a:moveTo>
                  <a:pt x="16770" y="3837"/>
                </a:moveTo>
                <a:lnTo>
                  <a:pt x="19346" y="6448"/>
                </a:lnTo>
                <a:lnTo>
                  <a:pt x="19346" y="4707"/>
                </a:lnTo>
                <a:lnTo>
                  <a:pt x="21122" y="4707"/>
                </a:lnTo>
                <a:lnTo>
                  <a:pt x="21122" y="8224"/>
                </a:lnTo>
                <a:lnTo>
                  <a:pt x="23733" y="10800"/>
                </a:lnTo>
                <a:lnTo>
                  <a:pt x="22079" y="10800"/>
                </a:lnTo>
                <a:lnTo>
                  <a:pt x="22079" y="17989"/>
                </a:lnTo>
                <a:lnTo>
                  <a:pt x="11461" y="17989"/>
                </a:lnTo>
                <a:lnTo>
                  <a:pt x="11461" y="10800"/>
                </a:lnTo>
                <a:lnTo>
                  <a:pt x="9807" y="10800"/>
                </a:lnTo>
                <a:close/>
              </a:path>
              <a:path fill="darkenLess" w="33540" h="21600">
                <a:moveTo>
                  <a:pt x="19346" y="6448"/>
                </a:moveTo>
                <a:lnTo>
                  <a:pt x="19346" y="4707"/>
                </a:lnTo>
                <a:lnTo>
                  <a:pt x="21122" y="4707"/>
                </a:lnTo>
                <a:lnTo>
                  <a:pt x="21122" y="8224"/>
                </a:lnTo>
                <a:close/>
              </a:path>
              <a:path fill="darkenLess" w="33540" h="21600">
                <a:moveTo>
                  <a:pt x="15847" y="14299"/>
                </a:moveTo>
                <a:lnTo>
                  <a:pt x="17693" y="14299"/>
                </a:lnTo>
                <a:lnTo>
                  <a:pt x="17693" y="17989"/>
                </a:lnTo>
                <a:lnTo>
                  <a:pt x="22079" y="17989"/>
                </a:lnTo>
                <a:lnTo>
                  <a:pt x="22079" y="10800"/>
                </a:lnTo>
                <a:lnTo>
                  <a:pt x="11461" y="10800"/>
                </a:lnTo>
                <a:lnTo>
                  <a:pt x="11461" y="17989"/>
                </a:lnTo>
                <a:lnTo>
                  <a:pt x="15847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C03B-C883-4E0D-9235-E8EC215A094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חיפוי בטוף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28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ניתן להשיג בגדלים ובגוונים שונים למגוון שימושי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28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מראה אסתטי, שמירת רטיבות בקרקע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28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שילוב עם יריעות לחיפוי קרקע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28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אורך חיים ארוך, יציב לאורך זמן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28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חומר יקר יחסית , בעיקר בשינוע ובישום בשטח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B665-2ACB-43E4-92DB-1928D8B77C4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3880" y="2566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  <a:cs typeface="Arial (Hebrew)"/>
              </a:rPr>
              <a:t>חיפוי בחלוקי נח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70000"/>
              </a:lnSpc>
              <a:spcBef>
                <a:spcPts val="325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חלוקי נחל - גדלים שונים, אורך   חיים ארוך, יציב. למגוון        שימושים ושילובי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70000"/>
              </a:lnSpc>
              <a:spcBef>
                <a:spcPts val="325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עלויות גבוהות בשינוע                ובביצוע בשטח.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5910120"/>
            <a:ext cx="762120" cy="49068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680"/>
              <a:gd name="textAreaBottom" fmla="*/ 459000 h 490680"/>
            </a:gdLst>
            <a:ahLst/>
            <a:rect l="textAreaLeft" t="textAreaTop" r="textAreaRight" b="textAreaBottom"/>
            <a:pathLst>
              <a:path w="33540" h="21600">
                <a:moveTo>
                  <a:pt x="0" y="0"/>
                </a:moveTo>
                <a:lnTo>
                  <a:pt x="33540" y="0"/>
                </a:lnTo>
                <a:lnTo>
                  <a:pt x="33540" y="21600"/>
                </a:lnTo>
                <a:lnTo>
                  <a:pt x="0" y="21600"/>
                </a:lnTo>
                <a:close/>
              </a:path>
              <a:path fill="lightenLess" w="33540" h="21600">
                <a:moveTo>
                  <a:pt x="0" y="0"/>
                </a:moveTo>
                <a:lnTo>
                  <a:pt x="33540" y="0"/>
                </a:lnTo>
                <a:lnTo>
                  <a:pt x="32140" y="1400"/>
                </a:lnTo>
                <a:lnTo>
                  <a:pt x="1400" y="1400"/>
                </a:lnTo>
                <a:close/>
              </a:path>
              <a:path fill="darken" w="33540" h="21600">
                <a:moveTo>
                  <a:pt x="33540" y="0"/>
                </a:moveTo>
                <a:lnTo>
                  <a:pt x="33540" y="21600"/>
                </a:lnTo>
                <a:lnTo>
                  <a:pt x="32140" y="20200"/>
                </a:lnTo>
                <a:lnTo>
                  <a:pt x="32140" y="1400"/>
                </a:lnTo>
                <a:close/>
              </a:path>
              <a:path fill="darkenLess" w="33540" h="21600">
                <a:moveTo>
                  <a:pt x="33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40" y="20200"/>
                </a:lnTo>
                <a:close/>
              </a:path>
              <a:path fill="lighten" w="33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40" h="21600">
                <a:moveTo>
                  <a:pt x="16770" y="3837"/>
                </a:moveTo>
                <a:lnTo>
                  <a:pt x="19346" y="6448"/>
                </a:lnTo>
                <a:lnTo>
                  <a:pt x="19346" y="4707"/>
                </a:lnTo>
                <a:lnTo>
                  <a:pt x="21122" y="4707"/>
                </a:lnTo>
                <a:lnTo>
                  <a:pt x="21122" y="8224"/>
                </a:lnTo>
                <a:lnTo>
                  <a:pt x="23733" y="10800"/>
                </a:lnTo>
                <a:lnTo>
                  <a:pt x="22079" y="10800"/>
                </a:lnTo>
                <a:lnTo>
                  <a:pt x="22079" y="17989"/>
                </a:lnTo>
                <a:lnTo>
                  <a:pt x="11461" y="17989"/>
                </a:lnTo>
                <a:lnTo>
                  <a:pt x="11461" y="10800"/>
                </a:lnTo>
                <a:lnTo>
                  <a:pt x="9807" y="10800"/>
                </a:lnTo>
                <a:close/>
              </a:path>
              <a:path fill="darkenLess" w="33540" h="21600">
                <a:moveTo>
                  <a:pt x="19346" y="6448"/>
                </a:moveTo>
                <a:lnTo>
                  <a:pt x="19346" y="4707"/>
                </a:lnTo>
                <a:lnTo>
                  <a:pt x="21122" y="4707"/>
                </a:lnTo>
                <a:lnTo>
                  <a:pt x="21122" y="8224"/>
                </a:lnTo>
                <a:close/>
              </a:path>
              <a:path fill="darkenLess" w="33540" h="21600">
                <a:moveTo>
                  <a:pt x="15847" y="14299"/>
                </a:moveTo>
                <a:lnTo>
                  <a:pt x="17693" y="14299"/>
                </a:lnTo>
                <a:lnTo>
                  <a:pt x="17693" y="17989"/>
                </a:lnTo>
                <a:lnTo>
                  <a:pt x="22079" y="17989"/>
                </a:lnTo>
                <a:lnTo>
                  <a:pt x="22079" y="10800"/>
                </a:lnTo>
                <a:lnTo>
                  <a:pt x="11461" y="10800"/>
                </a:lnTo>
                <a:lnTo>
                  <a:pt x="11461" y="17989"/>
                </a:lnTo>
                <a:lnTo>
                  <a:pt x="15847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אבני%20נחל%20דיכונדרה" descr=""/>
          <p:cNvPicPr/>
          <p:nvPr/>
        </p:nvPicPr>
        <p:blipFill>
          <a:blip r:embed="rId2"/>
          <a:stretch/>
        </p:blipFill>
        <p:spPr>
          <a:xfrm>
            <a:off x="1390680" y="2062080"/>
            <a:ext cx="3578040" cy="3024360"/>
          </a:xfrm>
          <a:prstGeom prst="rect">
            <a:avLst/>
          </a:prstGeom>
          <a:ln w="12600">
            <a:solidFill>
              <a:srgbClr val="3131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0756-A01F-48A4-8120-54A4840679C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ירעות%20פלסטיק" descr=""/>
          <p:cNvPicPr/>
          <p:nvPr/>
        </p:nvPicPr>
        <p:blipFill>
          <a:blip r:embed="rId2"/>
          <a:stretch/>
        </p:blipFill>
        <p:spPr>
          <a:xfrm>
            <a:off x="2514600" y="1376280"/>
            <a:ext cx="4343400" cy="4262400"/>
          </a:xfrm>
          <a:prstGeom prst="rect">
            <a:avLst/>
          </a:prstGeom>
          <a:ln w="12600">
            <a:solidFill>
              <a:srgbClr val="3131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258480"/>
            <a:ext cx="746784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חיפוי ביריעות פלסטיק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8331-0B06-4E70-9F76-F8034ACABBF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258480"/>
            <a:ext cx="746784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 תוכן העניינים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981840" y="1676520"/>
            <a:ext cx="1552680" cy="65700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7000"/>
              <a:gd name="textAreaBottom" fmla="*/ 614520 h 657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מה הוא חיפו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5187960" y="1676520"/>
            <a:ext cx="1552680" cy="65700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7000"/>
              <a:gd name="textAreaBottom" fmla="*/ 614520 h 657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יתרונות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החיפו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94080" y="1676520"/>
            <a:ext cx="1552680" cy="65700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7000"/>
              <a:gd name="textAreaBottom" fmla="*/ 614520 h 657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התאיידו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1600200" y="1676520"/>
            <a:ext cx="1552680" cy="65700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7000"/>
              <a:gd name="textAreaBottom" fmla="*/ 614520 h 657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עשבי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81840" y="2595600"/>
            <a:ext cx="1552680" cy="6555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5560"/>
              <a:gd name="textAreaBottom" fmla="*/ 613080 h 655560"/>
            </a:gdLst>
            <a:ahLst/>
            <a:rect l="textAreaLeft" t="textAreaTop" r="textAreaRight" b="textAreaBottom"/>
            <a:pathLst>
              <a:path w="51143" h="21600">
                <a:moveTo>
                  <a:pt x="0" y="0"/>
                </a:moveTo>
                <a:lnTo>
                  <a:pt x="51143" y="0"/>
                </a:lnTo>
                <a:lnTo>
                  <a:pt x="51143" y="21600"/>
                </a:lnTo>
                <a:lnTo>
                  <a:pt x="0" y="21600"/>
                </a:lnTo>
                <a:close/>
              </a:path>
              <a:path fill="lightenLess" w="51143" h="21600">
                <a:moveTo>
                  <a:pt x="0" y="0"/>
                </a:moveTo>
                <a:lnTo>
                  <a:pt x="51143" y="0"/>
                </a:lnTo>
                <a:lnTo>
                  <a:pt x="49743" y="1400"/>
                </a:lnTo>
                <a:lnTo>
                  <a:pt x="1400" y="1400"/>
                </a:lnTo>
                <a:close/>
              </a:path>
              <a:path fill="darken" w="51143" h="21600">
                <a:moveTo>
                  <a:pt x="51143" y="0"/>
                </a:moveTo>
                <a:lnTo>
                  <a:pt x="51143" y="21600"/>
                </a:lnTo>
                <a:lnTo>
                  <a:pt x="49743" y="20200"/>
                </a:lnTo>
                <a:lnTo>
                  <a:pt x="49743" y="1400"/>
                </a:lnTo>
                <a:close/>
              </a:path>
              <a:path fill="darkenLess" w="51143" h="21600">
                <a:moveTo>
                  <a:pt x="51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43" y="20200"/>
                </a:lnTo>
                <a:close/>
              </a:path>
              <a:path fill="lighten" w="51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טמפרטור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5187960" y="2595600"/>
            <a:ext cx="1552680" cy="6555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5560"/>
              <a:gd name="textAreaBottom" fmla="*/ 613080 h 655560"/>
            </a:gdLst>
            <a:ahLst/>
            <a:rect l="textAreaLeft" t="textAreaTop" r="textAreaRight" b="textAreaBottom"/>
            <a:pathLst>
              <a:path w="51143" h="21600">
                <a:moveTo>
                  <a:pt x="0" y="0"/>
                </a:moveTo>
                <a:lnTo>
                  <a:pt x="51143" y="0"/>
                </a:lnTo>
                <a:lnTo>
                  <a:pt x="51143" y="21600"/>
                </a:lnTo>
                <a:lnTo>
                  <a:pt x="0" y="21600"/>
                </a:lnTo>
                <a:close/>
              </a:path>
              <a:path fill="lightenLess" w="51143" h="21600">
                <a:moveTo>
                  <a:pt x="0" y="0"/>
                </a:moveTo>
                <a:lnTo>
                  <a:pt x="51143" y="0"/>
                </a:lnTo>
                <a:lnTo>
                  <a:pt x="49743" y="1400"/>
                </a:lnTo>
                <a:lnTo>
                  <a:pt x="1400" y="1400"/>
                </a:lnTo>
                <a:close/>
              </a:path>
              <a:path fill="darken" w="51143" h="21600">
                <a:moveTo>
                  <a:pt x="51143" y="0"/>
                </a:moveTo>
                <a:lnTo>
                  <a:pt x="51143" y="21600"/>
                </a:lnTo>
                <a:lnTo>
                  <a:pt x="49743" y="20200"/>
                </a:lnTo>
                <a:lnTo>
                  <a:pt x="49743" y="1400"/>
                </a:lnTo>
                <a:close/>
              </a:path>
              <a:path fill="darkenLess" w="51143" h="21600">
                <a:moveTo>
                  <a:pt x="51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43" y="20200"/>
                </a:lnTo>
                <a:close/>
              </a:path>
              <a:path fill="lighten" w="51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צימוח וגדיל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3394080" y="2595600"/>
            <a:ext cx="1552680" cy="6555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5560"/>
              <a:gd name="textAreaBottom" fmla="*/ 613080 h 655560"/>
            </a:gdLst>
            <a:ahLst/>
            <a:rect l="textAreaLeft" t="textAreaTop" r="textAreaRight" b="textAreaBottom"/>
            <a:pathLst>
              <a:path w="51143" h="21600">
                <a:moveTo>
                  <a:pt x="0" y="0"/>
                </a:moveTo>
                <a:lnTo>
                  <a:pt x="51143" y="0"/>
                </a:lnTo>
                <a:lnTo>
                  <a:pt x="51143" y="21600"/>
                </a:lnTo>
                <a:lnTo>
                  <a:pt x="0" y="21600"/>
                </a:lnTo>
                <a:close/>
              </a:path>
              <a:path fill="lightenLess" w="51143" h="21600">
                <a:moveTo>
                  <a:pt x="0" y="0"/>
                </a:moveTo>
                <a:lnTo>
                  <a:pt x="51143" y="0"/>
                </a:lnTo>
                <a:lnTo>
                  <a:pt x="49743" y="1400"/>
                </a:lnTo>
                <a:lnTo>
                  <a:pt x="1400" y="1400"/>
                </a:lnTo>
                <a:close/>
              </a:path>
              <a:path fill="darken" w="51143" h="21600">
                <a:moveTo>
                  <a:pt x="51143" y="0"/>
                </a:moveTo>
                <a:lnTo>
                  <a:pt x="51143" y="21600"/>
                </a:lnTo>
                <a:lnTo>
                  <a:pt x="49743" y="20200"/>
                </a:lnTo>
                <a:lnTo>
                  <a:pt x="49743" y="1400"/>
                </a:lnTo>
                <a:close/>
              </a:path>
              <a:path fill="darkenLess" w="51143" h="21600">
                <a:moveTo>
                  <a:pt x="51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43" y="20200"/>
                </a:lnTo>
                <a:close/>
              </a:path>
              <a:path fill="lighten" w="51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חיפוי אורגנ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7" action="ppaction://hlinksldjump"/>
          </p:cNvPr>
          <p:cNvSpPr/>
          <p:nvPr/>
        </p:nvSpPr>
        <p:spPr>
          <a:xfrm>
            <a:off x="1600200" y="2595600"/>
            <a:ext cx="1552680" cy="6555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5560"/>
              <a:gd name="textAreaBottom" fmla="*/ 613080 h 655560"/>
            </a:gdLst>
            <a:ahLst/>
            <a:rect l="textAreaLeft" t="textAreaTop" r="textAreaRight" b="textAreaBottom"/>
            <a:pathLst>
              <a:path w="51143" h="21600">
                <a:moveTo>
                  <a:pt x="0" y="0"/>
                </a:moveTo>
                <a:lnTo>
                  <a:pt x="51143" y="0"/>
                </a:lnTo>
                <a:lnTo>
                  <a:pt x="51143" y="21600"/>
                </a:lnTo>
                <a:lnTo>
                  <a:pt x="0" y="21600"/>
                </a:lnTo>
                <a:close/>
              </a:path>
              <a:path fill="lightenLess" w="51143" h="21600">
                <a:moveTo>
                  <a:pt x="0" y="0"/>
                </a:moveTo>
                <a:lnTo>
                  <a:pt x="51143" y="0"/>
                </a:lnTo>
                <a:lnTo>
                  <a:pt x="49743" y="1400"/>
                </a:lnTo>
                <a:lnTo>
                  <a:pt x="1400" y="1400"/>
                </a:lnTo>
                <a:close/>
              </a:path>
              <a:path fill="darken" w="51143" h="21600">
                <a:moveTo>
                  <a:pt x="51143" y="0"/>
                </a:moveTo>
                <a:lnTo>
                  <a:pt x="51143" y="21600"/>
                </a:lnTo>
                <a:lnTo>
                  <a:pt x="49743" y="20200"/>
                </a:lnTo>
                <a:lnTo>
                  <a:pt x="49743" y="1400"/>
                </a:lnTo>
                <a:close/>
              </a:path>
              <a:path fill="darkenLess" w="51143" h="21600">
                <a:moveTo>
                  <a:pt x="51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43" y="20200"/>
                </a:lnTo>
                <a:close/>
              </a:path>
              <a:path fill="lighten" w="51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חיפוי בשבבי עץ וקליפות עצי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8" action="ppaction://hlinksldjump"/>
          </p:cNvPr>
          <p:cNvSpPr/>
          <p:nvPr/>
        </p:nvSpPr>
        <p:spPr>
          <a:xfrm>
            <a:off x="6981840" y="3579840"/>
            <a:ext cx="1552680" cy="6573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7360"/>
              <a:gd name="textAreaBottom" fmla="*/ 614880 h 657360"/>
            </a:gdLst>
            <a:ahLst/>
            <a:rect l="textAreaLeft" t="textAreaTop" r="textAreaRight" b="textAreaBottom"/>
            <a:pathLst>
              <a:path w="51003" h="21600">
                <a:moveTo>
                  <a:pt x="0" y="0"/>
                </a:moveTo>
                <a:lnTo>
                  <a:pt x="51003" y="0"/>
                </a:lnTo>
                <a:lnTo>
                  <a:pt x="51003" y="21600"/>
                </a:lnTo>
                <a:lnTo>
                  <a:pt x="0" y="21600"/>
                </a:lnTo>
                <a:close/>
              </a:path>
              <a:path fill="lightenLess" w="51003" h="21600">
                <a:moveTo>
                  <a:pt x="0" y="0"/>
                </a:moveTo>
                <a:lnTo>
                  <a:pt x="51003" y="0"/>
                </a:lnTo>
                <a:lnTo>
                  <a:pt x="49603" y="1400"/>
                </a:lnTo>
                <a:lnTo>
                  <a:pt x="1400" y="1400"/>
                </a:lnTo>
                <a:close/>
              </a:path>
              <a:path fill="darken" w="51003" h="21600">
                <a:moveTo>
                  <a:pt x="51003" y="0"/>
                </a:moveTo>
                <a:lnTo>
                  <a:pt x="51003" y="21600"/>
                </a:lnTo>
                <a:lnTo>
                  <a:pt x="49603" y="20200"/>
                </a:lnTo>
                <a:lnTo>
                  <a:pt x="49603" y="1400"/>
                </a:lnTo>
                <a:close/>
              </a:path>
              <a:path fill="darkenLess" w="51003" h="21600">
                <a:moveTo>
                  <a:pt x="51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03" y="20200"/>
                </a:lnTo>
                <a:close/>
              </a:path>
              <a:path fill="lighten" w="51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חיפו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בקומפוס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9" action="ppaction://hlinksldjump"/>
          </p:cNvPr>
          <p:cNvSpPr/>
          <p:nvPr/>
        </p:nvSpPr>
        <p:spPr>
          <a:xfrm>
            <a:off x="5187960" y="3579840"/>
            <a:ext cx="1552680" cy="6573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7360"/>
              <a:gd name="textAreaBottom" fmla="*/ 614880 h 657360"/>
            </a:gdLst>
            <a:ahLst/>
            <a:rect l="textAreaLeft" t="textAreaTop" r="textAreaRight" b="textAreaBottom"/>
            <a:pathLst>
              <a:path w="51003" h="21600">
                <a:moveTo>
                  <a:pt x="0" y="0"/>
                </a:moveTo>
                <a:lnTo>
                  <a:pt x="51003" y="0"/>
                </a:lnTo>
                <a:lnTo>
                  <a:pt x="51003" y="21600"/>
                </a:lnTo>
                <a:lnTo>
                  <a:pt x="0" y="21600"/>
                </a:lnTo>
                <a:close/>
              </a:path>
              <a:path fill="lightenLess" w="51003" h="21600">
                <a:moveTo>
                  <a:pt x="0" y="0"/>
                </a:moveTo>
                <a:lnTo>
                  <a:pt x="51003" y="0"/>
                </a:lnTo>
                <a:lnTo>
                  <a:pt x="49603" y="1400"/>
                </a:lnTo>
                <a:lnTo>
                  <a:pt x="1400" y="1400"/>
                </a:lnTo>
                <a:close/>
              </a:path>
              <a:path fill="darken" w="51003" h="21600">
                <a:moveTo>
                  <a:pt x="51003" y="0"/>
                </a:moveTo>
                <a:lnTo>
                  <a:pt x="51003" y="21600"/>
                </a:lnTo>
                <a:lnTo>
                  <a:pt x="49603" y="20200"/>
                </a:lnTo>
                <a:lnTo>
                  <a:pt x="49603" y="1400"/>
                </a:lnTo>
                <a:close/>
              </a:path>
              <a:path fill="darkenLess" w="51003" h="21600">
                <a:moveTo>
                  <a:pt x="51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03" y="20200"/>
                </a:lnTo>
                <a:close/>
              </a:path>
              <a:path fill="lighten" w="51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חיפוי בעלי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3394080" y="3579840"/>
            <a:ext cx="1552680" cy="6573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7360"/>
              <a:gd name="textAreaBottom" fmla="*/ 614880 h 657360"/>
            </a:gdLst>
            <a:ahLst/>
            <a:rect l="textAreaLeft" t="textAreaTop" r="textAreaRight" b="textAreaBottom"/>
            <a:pathLst>
              <a:path w="51003" h="21600">
                <a:moveTo>
                  <a:pt x="0" y="0"/>
                </a:moveTo>
                <a:lnTo>
                  <a:pt x="51003" y="0"/>
                </a:lnTo>
                <a:lnTo>
                  <a:pt x="51003" y="21600"/>
                </a:lnTo>
                <a:lnTo>
                  <a:pt x="0" y="21600"/>
                </a:lnTo>
                <a:close/>
              </a:path>
              <a:path fill="lightenLess" w="51003" h="21600">
                <a:moveTo>
                  <a:pt x="0" y="0"/>
                </a:moveTo>
                <a:lnTo>
                  <a:pt x="51003" y="0"/>
                </a:lnTo>
                <a:lnTo>
                  <a:pt x="49603" y="1400"/>
                </a:lnTo>
                <a:lnTo>
                  <a:pt x="1400" y="1400"/>
                </a:lnTo>
                <a:close/>
              </a:path>
              <a:path fill="darken" w="51003" h="21600">
                <a:moveTo>
                  <a:pt x="51003" y="0"/>
                </a:moveTo>
                <a:lnTo>
                  <a:pt x="51003" y="21600"/>
                </a:lnTo>
                <a:lnTo>
                  <a:pt x="49603" y="20200"/>
                </a:lnTo>
                <a:lnTo>
                  <a:pt x="49603" y="1400"/>
                </a:lnTo>
                <a:close/>
              </a:path>
              <a:path fill="darkenLess" w="51003" h="21600">
                <a:moveTo>
                  <a:pt x="51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03" y="20200"/>
                </a:lnTo>
                <a:close/>
              </a:path>
              <a:path fill="lighten" w="51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חיפו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קזוארינ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1" action="ppaction://hlinksldjump"/>
          </p:cNvPr>
          <p:cNvSpPr/>
          <p:nvPr/>
        </p:nvSpPr>
        <p:spPr>
          <a:xfrm>
            <a:off x="1600200" y="3579840"/>
            <a:ext cx="1552680" cy="6573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7360"/>
              <a:gd name="textAreaBottom" fmla="*/ 614880 h 657360"/>
            </a:gdLst>
            <a:ahLst/>
            <a:rect l="textAreaLeft" t="textAreaTop" r="textAreaRight" b="textAreaBottom"/>
            <a:pathLst>
              <a:path w="51003" h="21600">
                <a:moveTo>
                  <a:pt x="0" y="0"/>
                </a:moveTo>
                <a:lnTo>
                  <a:pt x="51003" y="0"/>
                </a:lnTo>
                <a:lnTo>
                  <a:pt x="51003" y="21600"/>
                </a:lnTo>
                <a:lnTo>
                  <a:pt x="0" y="21600"/>
                </a:lnTo>
                <a:close/>
              </a:path>
              <a:path fill="lightenLess" w="51003" h="21600">
                <a:moveTo>
                  <a:pt x="0" y="0"/>
                </a:moveTo>
                <a:lnTo>
                  <a:pt x="51003" y="0"/>
                </a:lnTo>
                <a:lnTo>
                  <a:pt x="49603" y="1400"/>
                </a:lnTo>
                <a:lnTo>
                  <a:pt x="1400" y="1400"/>
                </a:lnTo>
                <a:close/>
              </a:path>
              <a:path fill="darken" w="51003" h="21600">
                <a:moveTo>
                  <a:pt x="51003" y="0"/>
                </a:moveTo>
                <a:lnTo>
                  <a:pt x="51003" y="21600"/>
                </a:lnTo>
                <a:lnTo>
                  <a:pt x="49603" y="20200"/>
                </a:lnTo>
                <a:lnTo>
                  <a:pt x="49603" y="1400"/>
                </a:lnTo>
                <a:close/>
              </a:path>
              <a:path fill="darkenLess" w="51003" h="21600">
                <a:moveTo>
                  <a:pt x="51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03" y="20200"/>
                </a:lnTo>
                <a:close/>
              </a:path>
              <a:path fill="lighten" w="51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חיפו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אורני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2" action="ppaction://hlinksldjump"/>
          </p:cNvPr>
          <p:cNvSpPr/>
          <p:nvPr/>
        </p:nvSpPr>
        <p:spPr>
          <a:xfrm>
            <a:off x="6981840" y="4498920"/>
            <a:ext cx="1552680" cy="6555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5560"/>
              <a:gd name="textAreaBottom" fmla="*/ 613080 h 655560"/>
            </a:gdLst>
            <a:ahLst/>
            <a:rect l="textAreaLeft" t="textAreaTop" r="textAreaRight" b="textAreaBottom"/>
            <a:pathLst>
              <a:path w="51143" h="21600">
                <a:moveTo>
                  <a:pt x="0" y="0"/>
                </a:moveTo>
                <a:lnTo>
                  <a:pt x="51143" y="0"/>
                </a:lnTo>
                <a:lnTo>
                  <a:pt x="51143" y="21600"/>
                </a:lnTo>
                <a:lnTo>
                  <a:pt x="0" y="21600"/>
                </a:lnTo>
                <a:close/>
              </a:path>
              <a:path fill="lightenLess" w="51143" h="21600">
                <a:moveTo>
                  <a:pt x="0" y="0"/>
                </a:moveTo>
                <a:lnTo>
                  <a:pt x="51143" y="0"/>
                </a:lnTo>
                <a:lnTo>
                  <a:pt x="49743" y="1400"/>
                </a:lnTo>
                <a:lnTo>
                  <a:pt x="1400" y="1400"/>
                </a:lnTo>
                <a:close/>
              </a:path>
              <a:path fill="darken" w="51143" h="21600">
                <a:moveTo>
                  <a:pt x="51143" y="0"/>
                </a:moveTo>
                <a:lnTo>
                  <a:pt x="51143" y="21600"/>
                </a:lnTo>
                <a:lnTo>
                  <a:pt x="49743" y="20200"/>
                </a:lnTo>
                <a:lnTo>
                  <a:pt x="49743" y="1400"/>
                </a:lnTo>
                <a:close/>
              </a:path>
              <a:path fill="darkenLess" w="51143" h="21600">
                <a:moveTo>
                  <a:pt x="51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43" y="20200"/>
                </a:lnTo>
                <a:close/>
              </a:path>
              <a:path fill="lighten" w="51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חיפו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אנאורגנ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3" action="ppaction://hlinksldjump"/>
          </p:cNvPr>
          <p:cNvSpPr/>
          <p:nvPr/>
        </p:nvSpPr>
        <p:spPr>
          <a:xfrm>
            <a:off x="5187960" y="4498920"/>
            <a:ext cx="1552680" cy="6555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5560"/>
              <a:gd name="textAreaBottom" fmla="*/ 613080 h 655560"/>
            </a:gdLst>
            <a:ahLst/>
            <a:rect l="textAreaLeft" t="textAreaTop" r="textAreaRight" b="textAreaBottom"/>
            <a:pathLst>
              <a:path w="51143" h="21600">
                <a:moveTo>
                  <a:pt x="0" y="0"/>
                </a:moveTo>
                <a:lnTo>
                  <a:pt x="51143" y="0"/>
                </a:lnTo>
                <a:lnTo>
                  <a:pt x="51143" y="21600"/>
                </a:lnTo>
                <a:lnTo>
                  <a:pt x="0" y="21600"/>
                </a:lnTo>
                <a:close/>
              </a:path>
              <a:path fill="lightenLess" w="51143" h="21600">
                <a:moveTo>
                  <a:pt x="0" y="0"/>
                </a:moveTo>
                <a:lnTo>
                  <a:pt x="51143" y="0"/>
                </a:lnTo>
                <a:lnTo>
                  <a:pt x="49743" y="1400"/>
                </a:lnTo>
                <a:lnTo>
                  <a:pt x="1400" y="1400"/>
                </a:lnTo>
                <a:close/>
              </a:path>
              <a:path fill="darken" w="51143" h="21600">
                <a:moveTo>
                  <a:pt x="51143" y="0"/>
                </a:moveTo>
                <a:lnTo>
                  <a:pt x="51143" y="21600"/>
                </a:lnTo>
                <a:lnTo>
                  <a:pt x="49743" y="20200"/>
                </a:lnTo>
                <a:lnTo>
                  <a:pt x="49743" y="1400"/>
                </a:lnTo>
                <a:close/>
              </a:path>
              <a:path fill="darkenLess" w="51143" h="21600">
                <a:moveTo>
                  <a:pt x="51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43" y="20200"/>
                </a:lnTo>
                <a:close/>
              </a:path>
              <a:path fill="lighten" w="51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חיפוי בטו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4" action="ppaction://hlinksldjump"/>
          </p:cNvPr>
          <p:cNvSpPr/>
          <p:nvPr/>
        </p:nvSpPr>
        <p:spPr>
          <a:xfrm>
            <a:off x="3394080" y="4498920"/>
            <a:ext cx="1552680" cy="6555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5560"/>
              <a:gd name="textAreaBottom" fmla="*/ 613080 h 655560"/>
            </a:gdLst>
            <a:ahLst/>
            <a:rect l="textAreaLeft" t="textAreaTop" r="textAreaRight" b="textAreaBottom"/>
            <a:pathLst>
              <a:path w="51143" h="21600">
                <a:moveTo>
                  <a:pt x="0" y="0"/>
                </a:moveTo>
                <a:lnTo>
                  <a:pt x="51143" y="0"/>
                </a:lnTo>
                <a:lnTo>
                  <a:pt x="51143" y="21600"/>
                </a:lnTo>
                <a:lnTo>
                  <a:pt x="0" y="21600"/>
                </a:lnTo>
                <a:close/>
              </a:path>
              <a:path fill="lightenLess" w="51143" h="21600">
                <a:moveTo>
                  <a:pt x="0" y="0"/>
                </a:moveTo>
                <a:lnTo>
                  <a:pt x="51143" y="0"/>
                </a:lnTo>
                <a:lnTo>
                  <a:pt x="49743" y="1400"/>
                </a:lnTo>
                <a:lnTo>
                  <a:pt x="1400" y="1400"/>
                </a:lnTo>
                <a:close/>
              </a:path>
              <a:path fill="darken" w="51143" h="21600">
                <a:moveTo>
                  <a:pt x="51143" y="0"/>
                </a:moveTo>
                <a:lnTo>
                  <a:pt x="51143" y="21600"/>
                </a:lnTo>
                <a:lnTo>
                  <a:pt x="49743" y="20200"/>
                </a:lnTo>
                <a:lnTo>
                  <a:pt x="49743" y="1400"/>
                </a:lnTo>
                <a:close/>
              </a:path>
              <a:path fill="darkenLess" w="51143" h="21600">
                <a:moveTo>
                  <a:pt x="51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43" y="20200"/>
                </a:lnTo>
                <a:close/>
              </a:path>
              <a:path fill="lighten" w="51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חיפו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בחלוקי נח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5" action="ppaction://hlinksldjump"/>
          </p:cNvPr>
          <p:cNvSpPr/>
          <p:nvPr/>
        </p:nvSpPr>
        <p:spPr>
          <a:xfrm>
            <a:off x="1600200" y="4498920"/>
            <a:ext cx="1552680" cy="65556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5560"/>
              <a:gd name="textAreaBottom" fmla="*/ 613080 h 655560"/>
            </a:gdLst>
            <a:ahLst/>
            <a:rect l="textAreaLeft" t="textAreaTop" r="textAreaRight" b="textAreaBottom"/>
            <a:pathLst>
              <a:path w="51143" h="21600">
                <a:moveTo>
                  <a:pt x="0" y="0"/>
                </a:moveTo>
                <a:lnTo>
                  <a:pt x="51143" y="0"/>
                </a:lnTo>
                <a:lnTo>
                  <a:pt x="51143" y="21600"/>
                </a:lnTo>
                <a:lnTo>
                  <a:pt x="0" y="21600"/>
                </a:lnTo>
                <a:close/>
              </a:path>
              <a:path fill="lightenLess" w="51143" h="21600">
                <a:moveTo>
                  <a:pt x="0" y="0"/>
                </a:moveTo>
                <a:lnTo>
                  <a:pt x="51143" y="0"/>
                </a:lnTo>
                <a:lnTo>
                  <a:pt x="49743" y="1400"/>
                </a:lnTo>
                <a:lnTo>
                  <a:pt x="1400" y="1400"/>
                </a:lnTo>
                <a:close/>
              </a:path>
              <a:path fill="darken" w="51143" h="21600">
                <a:moveTo>
                  <a:pt x="51143" y="0"/>
                </a:moveTo>
                <a:lnTo>
                  <a:pt x="51143" y="21600"/>
                </a:lnTo>
                <a:lnTo>
                  <a:pt x="49743" y="20200"/>
                </a:lnTo>
                <a:lnTo>
                  <a:pt x="49743" y="1400"/>
                </a:lnTo>
                <a:close/>
              </a:path>
              <a:path fill="darkenLess" w="51143" h="21600">
                <a:moveTo>
                  <a:pt x="51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43" y="20200"/>
                </a:lnTo>
                <a:close/>
              </a:path>
              <a:path fill="lighten" w="51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חיפוי בירעות פלסטי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7960" y="5438880"/>
            <a:ext cx="1552680" cy="65700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7000"/>
              <a:gd name="textAreaBottom" fmla="*/ 614520 h 657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קש ונסור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6" action="ppaction://hlinksldjump"/>
          </p:cNvPr>
          <p:cNvSpPr/>
          <p:nvPr/>
        </p:nvSpPr>
        <p:spPr>
          <a:xfrm>
            <a:off x="3394080" y="5438880"/>
            <a:ext cx="1552680" cy="657000"/>
          </a:xfrm>
          <a:custGeom>
            <a:avLst/>
            <a:gdLst>
              <a:gd name="textAreaLeft" fmla="*/ 42480 w 1552680"/>
              <a:gd name="textAreaRight" fmla="*/ 1510200 w 1552680"/>
              <a:gd name="textAreaTop" fmla="*/ 42480 h 657000"/>
              <a:gd name="textAreaBottom" fmla="*/ 614520 h 657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dffed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סיכו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B92A-AAFA-4800-A0AC-5F537AF83A6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3880" y="2566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  <a:cs typeface="Arial (Hebrew)"/>
              </a:rPr>
              <a:t>יריעות פלסטי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200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אורך חיים ארו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200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רצוי לשלב עם חיפויים אחרים לקבלת מראה אסתטי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200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מונע עשבי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200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שומר על רטיבות הקרקע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200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להקפיד על יריעה המאפשרת חדירת מים בחור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2001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אורך חיים ארוך (יכול להוות בעיה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F54B-9492-4B00-A615-5AAF20FE0BD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258480"/>
            <a:ext cx="746784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קש, נסורת, כסחת דשא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חיפוי יעיל, לא לאורך זמן, מכיל זרעים של עשבי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בשל הפירוק המהיר צורך חנקן,רצוי להוסיף דשן חנקני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1447920"/>
            <a:ext cx="464796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6fee6"/>
              </a:gs>
            </a:gsLst>
            <a:lin ang="10800000"/>
          </a:gra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קש ונסור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3124080"/>
            <a:ext cx="4647960" cy="3812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6fee6"/>
              </a:gs>
            </a:gsLst>
            <a:lin ang="10800000"/>
          </a:gra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כסחת דש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4572000"/>
            <a:ext cx="464796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e6fee6"/>
              </a:gs>
            </a:gsLst>
            <a:lin ang="10800000"/>
          </a:gradFill>
          <a:ln w="9360">
            <a:solidFill>
              <a:srgbClr val="0099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2000" spc="-1" strike="noStrike">
                <a:solidFill>
                  <a:srgbClr val="000000"/>
                </a:solidFill>
                <a:latin typeface="Times New Roman"/>
                <a:cs typeface="Arial (Hebrew)"/>
              </a:rPr>
              <a:t>קליפות שקדי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657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חיפוי יעיל, זמין, לפזר שיכבה של 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 (Hebrew)"/>
              </a:rPr>
              <a:t>10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 (Hebrew)"/>
              </a:rPr>
              <a:t> ס"מ, יוצר לפעמיים שכבה אטומה למים, כדאי לאוורר מידי פע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105520"/>
            <a:ext cx="7543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005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 (Hebrew)"/>
              </a:rPr>
              <a:t>יעיל נגד עשביה לפזר בעומק של 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 (Hebrew)"/>
              </a:rPr>
              <a:t>10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 (Hebrew)"/>
              </a:rPr>
              <a:t> - 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 (Hebrew)"/>
              </a:rPr>
              <a:t>15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Arial (Hebrew)"/>
              </a:rPr>
              <a:t> ס"מ, לאוורר מידי פע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E71E-A14C-40F7-9511-80C5F001450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vyקיסוס%20איור" descr=""/>
          <p:cNvPicPr/>
          <p:nvPr/>
        </p:nvPicPr>
        <p:blipFill>
          <a:blip r:embed="rId2"/>
          <a:stretch/>
        </p:blipFill>
        <p:spPr>
          <a:xfrm>
            <a:off x="3200400" y="4114800"/>
            <a:ext cx="3124080" cy="2147760"/>
          </a:xfrm>
          <a:prstGeom prst="rect">
            <a:avLst/>
          </a:prstGeom>
          <a:ln w="9360">
            <a:solidFill>
              <a:srgbClr val="3131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סיכום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5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בארץ כשלנו, עם קיץ חם ,ארוך ,קרינה חזקה, מיעוט משקעים וחוסר במים.</a:t>
            </a:r>
            <a:br>
              <a:rPr sz="2000"/>
            </a:b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חיפוי הקרקע לסוגיו השונים ,עם שילוב של צמחים מתאימים, מהווה פתרון לחלק מבעיות המים בגנינו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4557-40BE-45D1-822C-8511EB84EBC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alma2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3200400" cy="21938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828800" y="3429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כתב והגיש : דרור ניס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55640" y="217116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4400" spc="-1" strike="noStrike">
                <a:solidFill>
                  <a:srgbClr val="000086"/>
                </a:solidFill>
                <a:latin typeface="Arial Black"/>
                <a:cs typeface="Arial (Hebrew)"/>
              </a:rPr>
              <a:t>חיפויי קרק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287640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מה הוא חיפוי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חיפוי קרקע הוא : חומר אורגני או אנאורגני המוסף על פני שכבת הקרקע העליונה ובכך גורם לשנוי בסביבת הצמח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משאית%20פורקת%20שבבי%20עץ" descr=""/>
          <p:cNvPicPr/>
          <p:nvPr/>
        </p:nvPicPr>
        <p:blipFill>
          <a:blip r:embed="rId4"/>
          <a:stretch/>
        </p:blipFill>
        <p:spPr>
          <a:xfrm>
            <a:off x="2914560" y="2666880"/>
            <a:ext cx="4019760" cy="3203640"/>
          </a:xfrm>
          <a:prstGeom prst="rect">
            <a:avLst/>
          </a:prstGeom>
          <a:ln w="12600">
            <a:solidFill>
              <a:srgbClr val="3131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BAE6-A9B7-421E-8A36-F722534964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יתרונות החיפוי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הפחתת התאדות ושמירה על רטיבות הקרקע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הקטנת כמות העשבייה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Bef>
                <a:spcPts val="22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הורדת הטמפרטורה. </a:t>
            </a:r>
            <a:r>
              <a:rPr b="1" lang="he-IL" sz="1800" spc="-1" strike="noStrike">
                <a:solidFill>
                  <a:srgbClr val="ff5050"/>
                </a:solidFill>
                <a:latin typeface="Arial"/>
              </a:rPr>
              <a:t>(ממתן טמפרטורות קיצוניות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Bef>
                <a:spcPts val="22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השפעה חיובית על הצמיחה והגדילה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Bef>
                <a:spcPts val="22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השפעה חיובית על פוריות הקרקע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Bef>
                <a:spcPts val="22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מניעת הידוק והיוצרות קרום חד מולקולרי בשכבת הקרקע העליונה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Bef>
                <a:spcPts val="22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מונע פגיעות מכניות בקרקע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8B8F-AB7B-44A3-BCF7-FBBA775ECEC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התאיידות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20000"/>
              </a:lnSpc>
              <a:spcBef>
                <a:spcPts val="1913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החיפוי משמש כעין בידוד על פני הקרקע כתוצאה מכך מקטין את התחממות הקרקע 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spcBef>
                <a:spcPts val="1913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מקטין את ההתאיידות בכ- 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לעומת קרקע חשופה (אבפורציה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spcBef>
                <a:spcPts val="1913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חיפוי בעובי של 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ס"מ יגרום להארכת מסלול התנועה של המים כתוצאה מעליה נימית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spcBef>
                <a:spcPts val="1913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מונע היווצרות קרום קרקע אטום , בשכבת הקרקע העליונה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spcBef>
                <a:spcPts val="1913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החיפוי מגדיל את חידור המים לקרק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כאשר הוא מורכב מחומר אורגני כמו: שבבים , קומפוסט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דרושה כמות של 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 מ"מ כדי לחדור את השכבה בהרטבה הראשונה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42E0-399D-498F-98F1-C8820568B3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עשביה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115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החיפוי מקטין ומגביל מעבר של אור ,קרינה </a:t>
            </a:r>
            <a:r>
              <a:rPr b="1" lang="he-IL" sz="2000" spc="-1" strike="noStrike">
                <a:solidFill>
                  <a:srgbClr val="ff5050"/>
                </a:solidFill>
                <a:latin typeface="Arial"/>
                <a:ea typeface="Times New Roman (Hebrew)"/>
              </a:rPr>
              <a:t> 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וגזים</a:t>
            </a:r>
            <a:r>
              <a:rPr b="1" lang="he-IL" sz="2000" spc="-1" strike="noStrike">
                <a:solidFill>
                  <a:srgbClr val="ff5050"/>
                </a:solidFill>
                <a:latin typeface="Arial"/>
                <a:ea typeface="Times New Roman (Hebrew)"/>
              </a:rPr>
              <a:t> 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בין האטמוספרה לקרקע ומונע התפתחות של עשבים רעים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15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David"/>
                <a:cs typeface="Arial"/>
              </a:rPr>
              <a:t>מניעת צמיחת עשבים מאפשרת לצמחים קליטה של יותר מי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15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  <a:cs typeface="Arial"/>
              </a:rPr>
              <a:t>עשבים רב שנתיים כגון גומא הפקעים מצליחים לחדור הן חיפוי אורגני והן אנאורגני.</a:t>
            </a:r>
            <a:r>
              <a:rPr b="1" lang="he-IL" sz="20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 חיפוי מחטי אורן מדכא יבלית  - הערת רן פאוקר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weeds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5589720" y="4545000"/>
            <a:ext cx="2766960" cy="1817640"/>
          </a:xfrm>
          <a:prstGeom prst="rect">
            <a:avLst/>
          </a:prstGeom>
          <a:ln w="12600">
            <a:solidFill>
              <a:srgbClr val="3131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461C-1142-4BF2-B061-BC9766EDA1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טמפרטורה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130000"/>
              </a:lnSpc>
              <a:spcBef>
                <a:spcPts val="26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חיפוי קרקע מהווה חומר מבודד, מונע מקרני השמש לחדור לקרקע במשך היום ובלילה מונע בריחת חום מהקרקע לאטמוספרה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30000"/>
              </a:lnSpc>
              <a:spcBef>
                <a:spcPts val="26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בחומרי חיפוי אורגניים הטמפרטורה נמוכה במשך היום וגבוהה בשעות הלילה בהשוואה לקרקע חשופה. לעומת זאת בחיפויים אנאורגנים התוצאה הפוכה (למשל בחיפוי ביריעות מחומר פלסטי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30000"/>
              </a:lnSpc>
              <a:spcBef>
                <a:spcPts val="26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עובי החיפוי משפיע על הטמפרטורה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30000"/>
              </a:lnSpc>
              <a:spcBef>
                <a:spcPts val="26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000000"/>
                </a:solidFill>
                <a:latin typeface="Arial"/>
              </a:rPr>
              <a:t>צבע החיפוי משפיע על הטמפרטורה ,חיפוי בעל צבע כהה כגון קומפוסט או יריעות שחורות גורמים לעליה בטמפרטורה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6" action="ppaction://hlinksldjump"/>
          </p:cNvPr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AE18-E188-424B-BB4E-ABCA5AFB62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צימוח וגדילה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140000"/>
              </a:lnSpc>
              <a:spcBef>
                <a:spcPts val="15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החיפוי האורגני בהתפרקותו מעניק תוספת של חומר אורגני לקרקע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40000"/>
              </a:lnSpc>
              <a:spcBef>
                <a:spcPts val="15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כתוצאה מחיפוי, הלחות באדמה גבוהה יותר ומאפשרת לחומרי המזון בתמיסת הקרקע להיות זמינים יותר לצמחי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40000"/>
              </a:lnSpc>
              <a:spcBef>
                <a:spcPts val="15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בסקרים ובניסיונות נמצא כי צימוח השורשים בשכבות העליונות של הקרקע היה טוב יותר תחת החיפוי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40000"/>
              </a:lnSpc>
              <a:spcBef>
                <a:spcPts val="15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סוגי החיפוי משפיעים באופן ישיר על הגדילה של הצמח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40000"/>
              </a:lnSpc>
              <a:spcBef>
                <a:spcPts val="15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סוגי חיפוי אורגניים מסוימי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( אורנים, אלונים, איקליפטוסים ואחרים) מפרישים חו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ר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ים אללופטים (= חו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ר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ים מעכבי צ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י</a:t>
            </a:r>
            <a:r>
              <a:rPr b="1" lang="he-IL" sz="1800" spc="-1" strike="noStrike">
                <a:solidFill>
                  <a:srgbClr val="000000"/>
                </a:solidFill>
                <a:latin typeface="Arial"/>
              </a:rPr>
              <a:t>חה) ובכך מקטינים את בעית העשבים הרעי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" action="ppaction://hlinksldjump"/>
          </p:cNvPr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B405-4670-4874-885C-9C6E73626B7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256320"/>
            <a:ext cx="7467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0086"/>
                </a:solidFill>
                <a:latin typeface="Arial Black"/>
              </a:rPr>
              <a:t>חיפוי אורגני</a:t>
            </a:r>
            <a:endParaRPr b="1" i="1" lang="en-US" sz="3200" spc="-1" strike="noStrike">
              <a:solidFill>
                <a:srgbClr val="00008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30000"/>
              </a:lnSpc>
              <a:spcBef>
                <a:spcPts val="56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החיפוי האורגני – זמין ביותר לרשות האד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3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spcBef>
                <a:spcPts val="56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ניתן להשתמש במגוון חומרים גדול כמו: שאריות צמחים, קומפוסט, עלים שונים, רסק גזם, קומפוסט מפסולת ביתית ועוד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3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spcBef>
                <a:spcPts val="56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קומפוסט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Arial"/>
              </a:rPr>
              <a:t> חשוב להקפיד על רמת המליחות של הקומפוסט וכן שיחס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/N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Arial"/>
              </a:rPr>
              <a:t> נכון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רצוי להשתמש בקומפוסט המופק משאריות צמחים ואשפה ביתית ואינו מכיל תוספות של מינרלים.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</a:t>
            </a:r>
            <a:r>
              <a:rPr b="0" lang="he-IL" sz="1600" spc="-1" strike="noStrike">
                <a:solidFill>
                  <a:srgbClr val="ff5050"/>
                </a:solidFill>
                <a:latin typeface="Arial"/>
                <a:ea typeface="Times New Roman (Hebrew)"/>
              </a:rPr>
              <a:t>( למה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יחס של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/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לא מתאים עלול להשפיע על תהליך הניטריפקציה באופן שליל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00" spc="-1" strike="noStrike">
                <a:solidFill>
                  <a:srgbClr val="000000"/>
                </a:solidFill>
                <a:latin typeface="Arial"/>
                <a:cs typeface="Arial"/>
              </a:rPr>
              <a:t>תהליך של קומפוסטציה מלאה  ימנע הפצת זרעים של עשבי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9" action="ppaction://hlinksldjump"/>
          </p:cNvPr>
          <p:cNvSpPr/>
          <p:nvPr/>
        </p:nvSpPr>
        <p:spPr>
          <a:xfrm>
            <a:off x="1619280" y="6100920"/>
            <a:ext cx="762120" cy="490320"/>
          </a:xfrm>
          <a:custGeom>
            <a:avLst/>
            <a:gdLst>
              <a:gd name="textAreaLeft" fmla="*/ 31680 w 762120"/>
              <a:gd name="textAreaRight" fmla="*/ 730440 w 762120"/>
              <a:gd name="textAreaTop" fmla="*/ 31680 h 490320"/>
              <a:gd name="textAreaBottom" fmla="*/ 458640 h 490320"/>
            </a:gdLst>
            <a:ahLst/>
            <a:rect l="textAreaLeft" t="textAreaTop" r="textAreaRight" b="textAreaBottom"/>
            <a:pathLst>
              <a:path w="33565" h="21600">
                <a:moveTo>
                  <a:pt x="0" y="0"/>
                </a:moveTo>
                <a:lnTo>
                  <a:pt x="33565" y="0"/>
                </a:lnTo>
                <a:lnTo>
                  <a:pt x="33565" y="21600"/>
                </a:lnTo>
                <a:lnTo>
                  <a:pt x="0" y="21600"/>
                </a:lnTo>
                <a:close/>
              </a:path>
              <a:path fill="lightenLess" w="33565" h="21600">
                <a:moveTo>
                  <a:pt x="0" y="0"/>
                </a:moveTo>
                <a:lnTo>
                  <a:pt x="33565" y="0"/>
                </a:lnTo>
                <a:lnTo>
                  <a:pt x="32165" y="1400"/>
                </a:lnTo>
                <a:lnTo>
                  <a:pt x="1400" y="1400"/>
                </a:lnTo>
                <a:close/>
              </a:path>
              <a:path fill="darken" w="33565" h="21600">
                <a:moveTo>
                  <a:pt x="33565" y="0"/>
                </a:moveTo>
                <a:lnTo>
                  <a:pt x="33565" y="21600"/>
                </a:lnTo>
                <a:lnTo>
                  <a:pt x="32165" y="20200"/>
                </a:lnTo>
                <a:lnTo>
                  <a:pt x="32165" y="1400"/>
                </a:lnTo>
                <a:close/>
              </a:path>
              <a:path fill="darkenLess" w="33565" h="21600">
                <a:moveTo>
                  <a:pt x="33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5" y="20200"/>
                </a:lnTo>
                <a:close/>
              </a:path>
              <a:path fill="lighten" w="33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5" h="21600">
                <a:moveTo>
                  <a:pt x="16782" y="3837"/>
                </a:moveTo>
                <a:lnTo>
                  <a:pt x="19359" y="6448"/>
                </a:ln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lnTo>
                  <a:pt x="23745" y="10800"/>
                </a:lnTo>
                <a:lnTo>
                  <a:pt x="22092" y="10800"/>
                </a:lnTo>
                <a:lnTo>
                  <a:pt x="22092" y="17989"/>
                </a:lnTo>
                <a:lnTo>
                  <a:pt x="11473" y="17989"/>
                </a:lnTo>
                <a:lnTo>
                  <a:pt x="11473" y="10800"/>
                </a:lnTo>
                <a:lnTo>
                  <a:pt x="9819" y="10800"/>
                </a:lnTo>
                <a:close/>
              </a:path>
              <a:path fill="darkenLess" w="33565" h="21600">
                <a:moveTo>
                  <a:pt x="19359" y="6448"/>
                </a:moveTo>
                <a:lnTo>
                  <a:pt x="19359" y="4707"/>
                </a:lnTo>
                <a:lnTo>
                  <a:pt x="21134" y="4707"/>
                </a:lnTo>
                <a:lnTo>
                  <a:pt x="21134" y="8224"/>
                </a:lnTo>
                <a:close/>
              </a:path>
              <a:path fill="darkenLess" w="33565" h="21600">
                <a:moveTo>
                  <a:pt x="15860" y="14299"/>
                </a:moveTo>
                <a:lnTo>
                  <a:pt x="17705" y="14299"/>
                </a:lnTo>
                <a:lnTo>
                  <a:pt x="17705" y="17989"/>
                </a:lnTo>
                <a:lnTo>
                  <a:pt x="22092" y="17989"/>
                </a:lnTo>
                <a:lnTo>
                  <a:pt x="22092" y="10800"/>
                </a:lnTo>
                <a:lnTo>
                  <a:pt x="11473" y="10800"/>
                </a:lnTo>
                <a:lnTo>
                  <a:pt x="11473" y="17989"/>
                </a:lnTo>
                <a:lnTo>
                  <a:pt x="15860" y="17989"/>
                </a:lnTo>
                <a:close/>
              </a:path>
            </a:pathLst>
          </a:custGeom>
          <a:gradFill rotWithShape="0">
            <a:gsLst>
              <a:gs pos="0">
                <a:srgbClr val="73c673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1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F2B9-6A10-4459-B032-FA517A0CD49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08:57:17Z</dcterms:created>
  <dc:creator>יהודית שרף</dc:creator>
  <dc:description/>
  <dc:language>en-US</dc:language>
  <cp:lastModifiedBy>ran</cp:lastModifiedBy>
  <dcterms:modified xsi:type="dcterms:W3CDTF">2008-10-16T15:23:41Z</dcterms:modified>
  <cp:revision>83</cp:revision>
  <dc:subject/>
  <dc:title>חיפוי קרקע  כאמצעי לחיסכון במים</dc:title>
</cp:coreProperties>
</file>